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8CA-3FC2-4B1F-82F3-E6EE34B550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573-F632-484F-BC28-CDA6B50006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3AA-0280-4F00-B216-263FD06F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9B7-E84E-4E4C-AB7A-3392A89E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468-6508-4002-8D97-10767F7E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CE6-C5DC-440F-ABE8-02301A89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91B-CDC3-43E7-803B-139BF928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3A3-959D-42A7-B728-896EDCA9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A70-8AC8-4704-85E1-C19277A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1FF-1BC5-4EBB-B5DF-CF508C96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8BE-48EF-4945-8D4F-C4CE461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2AA-EA85-4B48-A5BA-601A348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4F7-12C6-4086-9C88-1CC4BC7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AB9-B4CB-4618-9090-B4CA479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34CB-AE25-4734-A4E9-1E6C39F7D4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8280" y="347400"/>
            <a:ext cx="415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8280" y="1595520"/>
            <a:ext cx="46386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nisem imuna na to, kar hoče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Kastelčevo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5:10:24Z</cp:lastPrinted>
  <dcterms:modified xsi:type="dcterms:W3CDTF">2014-10-02T05:18:05Z</dcterms:modified>
  <cp:revision>60</cp:revision>
  <dc:subject/>
  <dc:title>TITLE</dc:title>
</cp:coreProperties>
</file>